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ADF1C-44BA-4A27-8299-C15C6C0760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39CE2-1EC2-4B16-97B1-47B1AC0B954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D122C-AFFC-4AEF-858D-CA9CCAB9E48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C9751-2AFD-4AA5-A55C-E99600D302E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40CFE-7279-4CBD-8FCC-A34F469F6F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1919-C223-42B4-8E50-A8F05767B2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BD00-840D-449B-806F-299B61C0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625F-63B7-4B87-9A77-BEDA59F8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1FAF-43A3-45FF-A0D3-2999BD0726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3D4A-25F3-44C3-A125-1A99B690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6593-5FE5-45A6-B2FB-FF09ECC8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5F7C-8E12-48B5-8F27-AE74E01E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7A27-B6A8-415F-8DAA-39083D77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C5FB-C4A8-460C-8EB2-1C6E6D54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CE06-AC4D-4579-B76C-D5158B66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5A2D-AC20-4254-92A5-2EC378FE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2B07-2180-421F-B8E8-E7175A66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1E6E1B-E3FE-4FEF-A2C0-0B61DD2C3112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OS TIPOS DE FRU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Agrupar 1"/>
          <p:cNvGrpSpPr/>
          <p:nvPr/>
        </p:nvGrpSpPr>
        <p:grpSpPr>
          <a:xfrm>
            <a:off x="838080" y="1600200"/>
            <a:ext cx="7772400" cy="3809880"/>
            <a:chOff x="838080" y="1600200"/>
            <a:chExt cx="7772400" cy="3809880"/>
          </a:xfrm>
        </p:grpSpPr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777240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Imagen 2" descr=""/>
            <p:cNvPicPr/>
            <p:nvPr/>
          </p:nvPicPr>
          <p:blipFill>
            <a:blip r:embed="rId2"/>
            <a:stretch/>
          </p:blipFill>
          <p:spPr>
            <a:xfrm>
              <a:off x="2050920" y="1898640"/>
              <a:ext cx="1800000" cy="160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3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tipos de fru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6084720" y="1341360"/>
            <a:ext cx="20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otón de 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7391520" y="3232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u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7543800" y="548640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7391520" y="1828800"/>
            <a:ext cx="13716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971640" y="836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d0a"/>
                </a:solidFill>
                <a:latin typeface="Arial"/>
              </a:rPr>
              <a:t>Frutos se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900000" y="141300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268360" y="148428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m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924360" y="11253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uela de caball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971640" y="342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d0a"/>
                </a:solidFill>
                <a:latin typeface="Arial"/>
              </a:rPr>
              <a:t>Frutos carno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826920" y="544500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m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2556000" y="537372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4284720" y="537372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l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5940360" y="544500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ere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5:07Z</dcterms:modified>
  <cp:revision>47</cp:revision>
  <dc:subject/>
  <dc:title>Diapositiva 1</dc:title>
</cp:coreProperties>
</file>